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7.gif" ContentType="image/gif"/>
  <Override PartName="/ppt/media/image5.jpeg" ContentType="image/jpeg"/>
  <Override PartName="/ppt/media/image6.png" ContentType="image/png"/>
  <Override PartName="/ppt/media/image14.wmf" ContentType="image/x-wmf"/>
  <Override PartName="/ppt/media/image12.jpeg" ContentType="image/jpeg"/>
  <Override PartName="/ppt/media/image22.wmf" ContentType="image/x-wmf"/>
  <Override PartName="/ppt/media/image11.gif" ContentType="image/gif"/>
  <Override PartName="/ppt/media/image10.jpeg" ContentType="image/jpeg"/>
  <Override PartName="/ppt/media/image13.wmf" ContentType="image/x-wmf"/>
  <Override PartName="/ppt/media/image30.wmf" ContentType="image/x-wmf"/>
  <Override PartName="/ppt/media/image33.jpeg" ContentType="image/jpe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1A8-7FC5-401E-9C58-411275A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D09-C6FF-4C3B-99D6-F0D69D4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64A-B007-4561-ABCD-0CB79603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1C7-99FE-4F7F-8906-ED64767C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AC7-537C-4CFF-83DE-F012691E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D8C-6C73-493A-980C-E6FD5A0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857-7325-4DD2-A4E2-224B78F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67A-B66A-4400-999F-E22E003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ED7-EFF8-4A2F-90AD-5AF29B34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B7B-F4A4-4827-B93B-7EC6C7E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4D2-8724-4C45-A716-29C3329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655-B570-40CA-9B46-1D7E59B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A23-8766-4BE2-BC94-B828402B1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file:///tmp/home/.config/libreoffice/4/user/gallery/~PP1800.WAV" TargetMode="External"/><Relationship Id="rId4" Type="http://schemas.microsoft.com/office/2007/relationships/media" Target="file:///tmp/home/.config/libreoffice/4/user/gallery/~PP1800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~PP3355.WAV" TargetMode="External"/><Relationship Id="rId4" Type="http://schemas.microsoft.com/office/2007/relationships/media" Target="file:///tmp/home/.config/libreoffice/4/user/gallery/~PP3355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audio" Target="file:///tmp/home/.config/libreoffice/4/user/gallery/~PP3858.WAV" TargetMode="External"/><Relationship Id="rId7" Type="http://schemas.microsoft.com/office/2007/relationships/media" Target="file:///tmp/home/.config/libreoffice/4/user/gallery/~PP3858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file:///tmp/home/.config/libreoffice/4/user/gallery/~PP2313.WAV" TargetMode="External"/><Relationship Id="rId3" Type="http://schemas.microsoft.com/office/2007/relationships/media" Target="file:///tmp/home/.config/libreoffice/4/user/gallery/~PP2313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audio" Target="file:///tmp/home/.config/libreoffice/4/user/gallery/~PP1670.WAV" TargetMode="External"/><Relationship Id="rId7" Type="http://schemas.microsoft.com/office/2007/relationships/media" Target="file:///tmp/home/.config/libreoffice/4/user/gallery/~PP1670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~PP2777.WAV" TargetMode="External"/><Relationship Id="rId3" Type="http://schemas.microsoft.com/office/2007/relationships/media" Target="file:///tmp/home/.config/libreoffice/4/user/gallery/~PP2777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file:///tmp/home/.config/libreoffice/4/user/gallery/~PP3009.WAV" TargetMode="External"/><Relationship Id="rId3" Type="http://schemas.microsoft.com/office/2007/relationships/media" Target="file:///tmp/home/.config/libreoffice/4/user/gallery/~PP3009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368.WAV" TargetMode="External"/><Relationship Id="rId3" Type="http://schemas.microsoft.com/office/2007/relationships/media" Target="file:///tmp/home/.config/libreoffice/4/user/gallery/~PP36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850.WAV" TargetMode="External"/><Relationship Id="rId3" Type="http://schemas.microsoft.com/office/2007/relationships/media" Target="file:///tmp/home/.config/libreoffice/4/user/gallery/~PP850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3775.WAV" TargetMode="External"/><Relationship Id="rId3" Type="http://schemas.microsoft.com/office/2007/relationships/media" Target="file:///tmp/home/.config/libreoffice/4/user/gallery/~PP3775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file:///tmp/home/.config/libreoffice/4/user/gallery/~PP2908.WAV" TargetMode="External"/><Relationship Id="rId6" Type="http://schemas.microsoft.com/office/2007/relationships/media" Target="file:///tmp/home/.config/libreoffice/4/user/gallery/~PP2908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~PP318.WAV" TargetMode="External"/><Relationship Id="rId4" Type="http://schemas.microsoft.com/office/2007/relationships/media" Target="file:///tmp/home/.config/libreoffice/4/user/gallery/~PP318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file:///tmp/home/.config/libreoffice/4/user/gallery/~PP2856.WAV" TargetMode="External"/><Relationship Id="rId4" Type="http://schemas.microsoft.com/office/2007/relationships/media" Target="file:///tmp/home/.config/libreoffice/4/user/gallery/~PP2856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file:///tmp/home/.config/libreoffice/4/user/gallery/~PP1593.WAV" TargetMode="External"/><Relationship Id="rId4" Type="http://schemas.microsoft.com/office/2007/relationships/media" Target="file:///tmp/home/.config/libreoffice/4/user/gallery/~PP1593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1841.WAV" TargetMode="External"/><Relationship Id="rId3" Type="http://schemas.microsoft.com/office/2007/relationships/media" Target="file:///tmp/home/.config/libreoffice/4/user/gallery/~PP1841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 warst du in den Fer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ristin She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am Strand Fussball gespie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0958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draussen gelauf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295884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511360" cy="2349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m Restaurant Milch getrunk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368720" cy="183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2330280" cy="20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34792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2120" y="1523880"/>
            <a:ext cx="2165400" cy="214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n den Abend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usic"/>
          <p:cNvSpPr/>
          <p:nvPr/>
        </p:nvSpPr>
        <p:spPr>
          <a:xfrm>
            <a:off x="1295280" y="266688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ch habe viele klamotten gekauf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0" y="3124080"/>
            <a:ext cx="1893960" cy="1484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4648320"/>
            <a:ext cx="2043360" cy="163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600200"/>
            <a:ext cx="2000160" cy="2008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90720" y="3809880"/>
            <a:ext cx="2149200" cy="1762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38080" y="1371600"/>
            <a:ext cx="2362320" cy="188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Es hat mir gefallen. Es war Phantat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Du sollst nach South Carolina ge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60480"/>
            <a:ext cx="8531280" cy="6797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505320"/>
            <a:ext cx="3962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ch war in South Carol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Hilton Hotel geblie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am Strand in Myrtle Strand, South Carol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2292480"/>
            <a:ext cx="6019920" cy="4565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Ich habe im Restaurant gegess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1238400" cy="9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2514600"/>
            <a:ext cx="1238400" cy="94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9320" y="533412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schwom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819680" cy="244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ch bin zur plantage gegan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2816280" cy="262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Patentante besuc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196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54720" y="1752480"/>
            <a:ext cx="240984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am See fotografie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9:10Z</dcterms:created>
  <dc:creator>CUSD220</dc:creator>
  <dc:description/>
  <dc:language>en-US</dc:language>
  <cp:lastModifiedBy>CUSD220</cp:lastModifiedBy>
  <dcterms:modified xsi:type="dcterms:W3CDTF">2011-11-15T17:48:58Z</dcterms:modified>
  <cp:revision>6</cp:revision>
  <dc:subject/>
  <dc:title>Wo warst du in den Ferien?</dc:title>
</cp:coreProperties>
</file>